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194D1-37AA-4C23-92DB-4FF056EA521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AA965-92B4-458A-B034-1302CA2C919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35E84-C60A-4B2E-9535-A168CEBF6DE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58275-302A-4226-ADFB-70859E6C387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2E79E-9AA7-4814-9676-C8F89168B3E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308A8-9BB7-405E-85DC-B4E795161E0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07925-4317-4B9F-9EE5-B64BFB436A6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3F7E9-B3BF-42ED-A367-F8F502529FA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23398-EFB6-4151-9218-9D5604C72E3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FF627-404C-4051-A689-13E4649808C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C1E35-7195-4AFF-AB53-2BA519A395F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FF823-8250-4004-B278-3FBB46B6CEC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AEFD1-7843-4FCD-B700-EE7E5548CD3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ED8CF-DC6F-4073-9F7A-8C6F47FC925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9C7EFF-367F-48AE-9B14-D4082FD62F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46D9ED1-C1B7-43BD-8D20-9146CD8D23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217AE70-D31F-46FC-8556-0283B5CDD9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92B0312-F5A8-447F-9012-E55AB92CE2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0894792-EA12-4508-AE62-EAB81FBA9B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A86FF93-8445-457B-AAF5-3FF9381449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6029860-B2D6-447F-BFB2-C5C8FC19DD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C624231-391B-479A-BA2C-2C2C0442AE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038BC5F-7336-4BF7-9183-21EFF75A8F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04CFB63-6C3A-4462-A31E-BC4842FD7F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2D12A04-7853-4910-BA35-022BDE3D54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92F860-3218-4C77-9D34-7841E9200E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C1774-59FA-4270-BE21-CE5B0313C10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六章</a:t>
            </a:r>
            <a:br>
              <a:rPr sz="4000"/>
            </a:br>
            <a:r>
              <a:rPr b="1" lang="zh-CN" sz="4000" spc="-1" strike="noStrike">
                <a:solidFill>
                  <a:srgbClr val="ffffff"/>
                </a:solidFill>
                <a:latin typeface="Verdana"/>
                <a:ea typeface="宋体"/>
              </a:rPr>
              <a:t>肾上腺皮质激素类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其他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退热作用：用于严重中毒性感染，有迅速而良好的退热作用。可能与其能抑制体温中枢对致热原的反应、稳定溶酶体膜、减少内源性致热原的释放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血液与造血系统：刺激骨髓造血功能，使红细胞和血红蛋白含量增加，大剂量可使血小板增多，刺激中性粒细胞数量增多。但可使血液中淋巴细胞减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中枢神经系统：可提高中枢的兴奋性，大剂量可引起欣快、激动、失眠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骨骼：长期应用可出现骨质疏松，特别是脊椎骨，甚至发生压缩性骨折、鱼骨样及楔形畸形。</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心血管系统：可增强儿茶酚胺血管收缩作用，增加血管壁肾上腺受体的表达，可出现高血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消化系统：可增进消化腺的分泌功能，使胃酸和胃蛋白酶分泌增多，提高食欲，促进消化，但大剂量长期应用可加重或诱发溃疡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严重感染或炎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严重急性感染：原则上限于严重感染并伴有明显毒血症者，如中毒性菌痢、中毒性肺炎、暴发型流行性脑膜炎、急性粟粒性肺结核及败血症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目前缺乏有效的抗病毒药物，病毒性感染一般不用激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预防炎症后遗症：人体重要器官或要害部位易产生组织粘连或瘢痕形成，可引起严重功能障碍。如结核性脑膜炎、胸膜炎、角膜炎、睾丸炎等，应用糖皮质激素可防止或减少炎症后遗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7" name=""/>
          <p:cNvSpPr txBox="1"/>
          <p:nvPr/>
        </p:nvSpPr>
        <p:spPr>
          <a:xfrm>
            <a:off x="285840" y="1071720"/>
            <a:ext cx="885816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免疫相关疾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自身免疫性疾病：如严重风湿热、风湿性心肌炎、风湿性及类风湿性关节炎、全身性红斑狼疮、肾病综合征等，应用糖皮质激素可缓解症状。对多发性皮肌炎，为首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器官移植排斥反应：可用于预防或治疗器官移植排斥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过敏性疾病：如荨麻疹、血管神经性水肿、支气管哮喘和过敏性休克等，此类疾病一般应用肾上腺素受体激动药和抗组胺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0" name=""/>
          <p:cNvSpPr txBox="1"/>
          <p:nvPr/>
        </p:nvSpPr>
        <p:spPr>
          <a:xfrm>
            <a:off x="285480" y="1071720"/>
            <a:ext cx="828684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抗休克治疗    可用于各种休克。对感染中毒性休克，应在有效抗菌药物治疗下，及早、短时间突击使用对过敏性休克，本类药为次选，可与首选药肾上腺素合用。对低血容量性休克，在补液或输血后效果不佳者，可用超大剂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血液病   用于儿童急性淋巴细胞性白血病，再生障碍性贫血，粒细胞减少症，血小板减少症，但停药易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3"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局部应用 对湿疹、接触性皮炎、肛门瘙痒、牛皮癣等都有效，多采用氢化可的松或肤氢松等软膏局部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替代疗法 用于急、慢性肾上腺皮质功能不全者，脑垂体前叶功能减退及肾上腺次全切除术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6"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不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长期大剂量应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类肾上腺皮质功能亢进综合征（柯兴综合征）是过量使用糖皮质激素引起物质代谢和水盐代谢紊乱的结果。其主要表现有：满月脸、水牛背、向心性肥胖、皮肤变薄、水肿、低血钾、高血糖、高血压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诱发或加重感染：长应用可诱发感染或使潜在病灶扩散，特别是在原有疾病已使抵抗力降低的白血病、再生障碍性贫血、肾病综合征等患者更易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9"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消化系统并发症：因刺激胃酸、胃蛋白酶分泌并抑制胃黏液分泌，故可诱发或加剧胃、十二指肠溃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 </a:t>
            </a:r>
            <a:r>
              <a:rPr b="1" lang="zh-CN" sz="2800" spc="-1" strike="noStrike">
                <a:solidFill>
                  <a:srgbClr val="000000"/>
                </a:solidFill>
                <a:latin typeface="Verdana"/>
                <a:ea typeface="宋体"/>
              </a:rPr>
              <a:t>心血管系统并发症：长期应用，由于水钠潴留和血脂升高可引起高血压和动脉粥样硬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骨质疏松、肌肉萎缩、伤口愈合延缓、抑制生长发育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⑥</a:t>
            </a:r>
            <a:r>
              <a:rPr b="1" lang="zh-CN" sz="2800" spc="-1" strike="noStrike">
                <a:solidFill>
                  <a:srgbClr val="000000"/>
                </a:solidFill>
                <a:latin typeface="Verdana"/>
                <a:ea typeface="宋体"/>
              </a:rPr>
              <a:t>眼部病变：可致晶体后补包囊下白内障，影响房水回流造成青光眼，严重可致角膜穿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2" name=""/>
          <p:cNvSpPr txBox="1"/>
          <p:nvPr/>
        </p:nvSpPr>
        <p:spPr>
          <a:xfrm>
            <a:off x="285480" y="1356840"/>
            <a:ext cx="8429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停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医源性肾上腺皮质功能不全：长期应用糖皮质激素可通过负反馈作用，使内源性肾上腺皮质功能减退，甚至肾上腺皮质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反跳现象及停药症状：长期用药因减量太快或突然停药所致原有疾病复发或加重的现象，称为“反跳现象”。有些患者出现原来疾病没有的症状，如肌痛、肌强直关节痛、疲乏无力、情绪消沉、发热等，称停药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5"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禁忌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严重精神病和癫痫，活动性消化性溃疡，新近胃肠吻合术，骨折，创伤修复期，角膜溃疡，肾上腺皮质功能亢进症，严重高血压，糖尿病，孕妇，抗菌药物不能控制的感染如水痘、麻疹、真菌感染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掌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糖皮质激素的药理作用、临床应用、不良反应、禁忌证和药疗监护须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熟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糖皮质激素的体内过程及用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盐皮质激素和促肾上腺皮质激素的药理作用、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体内过程及用法</a:t>
            </a:r>
            <a:endParaRPr b="0" lang="en-US" sz="3200" spc="-1" strike="noStrike">
              <a:solidFill>
                <a:srgbClr val="ffffff"/>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体内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口服、注射均可吸收。口服氢化可的松后</a:t>
            </a:r>
            <a:r>
              <a:rPr b="1" lang="en-US" sz="2800" spc="-1" strike="noStrike">
                <a:solidFill>
                  <a:srgbClr val="000000"/>
                </a:solidFill>
                <a:latin typeface="Verdana"/>
                <a:ea typeface="宋体"/>
              </a:rPr>
              <a:t>1~2</a:t>
            </a:r>
            <a:r>
              <a:rPr b="1" lang="zh-CN" sz="2800" spc="-1" strike="noStrike">
                <a:solidFill>
                  <a:srgbClr val="000000"/>
                </a:solidFill>
                <a:latin typeface="Verdana"/>
                <a:ea typeface="宋体"/>
              </a:rPr>
              <a:t>小时血药浓度达高峰。氢化可的松进入血液后</a:t>
            </a:r>
            <a:r>
              <a:rPr b="1" lang="en-US" sz="2800" spc="-1" strike="noStrike">
                <a:solidFill>
                  <a:srgbClr val="000000"/>
                </a:solidFill>
                <a:latin typeface="Verdana"/>
                <a:ea typeface="宋体"/>
              </a:rPr>
              <a:t>90%</a:t>
            </a:r>
            <a:r>
              <a:rPr b="1" lang="zh-CN" sz="2800" spc="-1" strike="noStrike">
                <a:solidFill>
                  <a:srgbClr val="000000"/>
                </a:solidFill>
                <a:latin typeface="Verdana"/>
                <a:ea typeface="宋体"/>
              </a:rPr>
              <a:t>以上与血浆蛋白呈可逆性结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可的松与泼尼松在体内分别转化为氢化可的松和泼尼松龙才能发挥作用，故严重肝病时，应直接使用氢化可的松和泼尼松龙。苯巴比妥、苯妥英钠等肝药酶诱导剂与糖皮质激素合用时，可加快其分解，故须增加后者的用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体内过程及用法</a:t>
            </a:r>
            <a:endParaRPr b="0" lang="en-US" sz="3200" spc="-1" strike="noStrike">
              <a:solidFill>
                <a:srgbClr val="ffffff"/>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1"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用法</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 </a:t>
            </a:r>
            <a:r>
              <a:rPr b="1" lang="zh-CN" sz="2800" spc="-1" strike="noStrike">
                <a:solidFill>
                  <a:srgbClr val="000000"/>
                </a:solidFill>
                <a:latin typeface="Verdana"/>
                <a:ea typeface="宋体"/>
              </a:rPr>
              <a:t>大剂量冲击疗法    适用于急性、重度、危及生命的疾病的抢救，常用氢化可的松静脉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一般剂量长期疗法    多用于结缔组织病和肾病综合征等。常用泼尼松口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小剂量替代疗法    适于治疗急、慢性肾上腺皮质功能不全症、腺垂体功能减退及肾上腺次全切除术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4"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采用糖皮质激素治疗前，特别对需要长疗程患者应先作结核菌素试验，排出潜在结核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用药期间应注意测定患者心率、血压、体温、液体出入量、体重，注意观察皮肤有无紫斑，有无低钙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长期用药者做定期特殊检查：饭后</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小时血糖、血钾，眼内压等眼科检查，脊柱胸部</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光检查，以利预防低血钾、低血糖、白内障、青光眼及骨质疏松，定期检查尿中</a:t>
            </a:r>
            <a:r>
              <a:rPr b="1" lang="en-US" sz="2800" spc="-1" strike="noStrike">
                <a:solidFill>
                  <a:srgbClr val="000000"/>
                </a:solidFill>
                <a:latin typeface="Verdana"/>
                <a:ea typeface="宋体"/>
              </a:rPr>
              <a:t>17-</a:t>
            </a:r>
            <a:r>
              <a:rPr b="1" lang="zh-CN" sz="2800" spc="-1" strike="noStrike">
                <a:solidFill>
                  <a:srgbClr val="000000"/>
                </a:solidFill>
                <a:latin typeface="Verdana"/>
                <a:ea typeface="宋体"/>
              </a:rPr>
              <a:t>酮类固醇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7"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糖皮质激素分泌具有昼夜节律性，应采用晨给药法，在上午</a:t>
            </a: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时给药，以减少外源性糖皮质激素对肾上腺皮质的抑制作用。采用隔日晨给药法，可减少不良反应，减轻戒断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0"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告诉患者在用药期间应注意和需要配合的事项</a:t>
            </a:r>
            <a:r>
              <a:rPr b="1" lang="en-US" sz="2800" spc="-1" strike="noStrike">
                <a:solidFill>
                  <a:srgbClr val="000000"/>
                </a:solidFill>
                <a:latin typeface="Verdana"/>
                <a:ea typeface="宋体"/>
              </a:rPr>
              <a:t>: ①</a:t>
            </a:r>
            <a:r>
              <a:rPr b="1" lang="zh-CN" sz="2800" spc="-1" strike="noStrike">
                <a:solidFill>
                  <a:srgbClr val="000000"/>
                </a:solidFill>
                <a:latin typeface="Verdana"/>
                <a:ea typeface="宋体"/>
              </a:rPr>
              <a:t>按医生所嘱时间及剂量用药，不可增减或停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饮食以低钠、低糖、高蛋白、高维生素、含钾丰富的水果和蔬菜有助于预防不良反应的发生。</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③</a:t>
            </a:r>
            <a:r>
              <a:rPr b="1" lang="zh-CN" sz="2800" spc="-1" strike="noStrike">
                <a:solidFill>
                  <a:srgbClr val="000000"/>
                </a:solidFill>
                <a:latin typeface="Verdana"/>
                <a:ea typeface="宋体"/>
              </a:rPr>
              <a:t>用药期间应注意个人卫生，防止感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定期复诊，以便根据病情调整剂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⑤</a:t>
            </a:r>
            <a:r>
              <a:rPr b="1" lang="zh-CN" sz="2800" spc="-1" strike="noStrike">
                <a:solidFill>
                  <a:srgbClr val="000000"/>
                </a:solidFill>
                <a:latin typeface="Verdana"/>
                <a:ea typeface="宋体"/>
              </a:rPr>
              <a:t>鼓励患者最好使用板床或硬床垫，以防骨痛或自发性骨折。</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⑥</a:t>
            </a:r>
            <a:r>
              <a:rPr b="1" lang="zh-CN" sz="2800" spc="-1" strike="noStrike">
                <a:solidFill>
                  <a:srgbClr val="000000"/>
                </a:solidFill>
                <a:latin typeface="Verdana"/>
                <a:ea typeface="宋体"/>
              </a:rPr>
              <a:t>女性患者长期用药可引起月经失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为减少严重不良反应可采取下述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加服维生素</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钙片，尤其在老年、儿童及更年期妇女患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加服抗酸药或保护胃粘膜制剂以预防消化道溃疡③局部用药可达到治疗目的者则不全身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长期用药患者在停药时一定要逐渐减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6"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为减少严重不良反应可采取下述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加服维生素</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钙片，尤其在老年、儿童及更年期妇女患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加服抗酸药或保护胃粘膜制剂以预防消化道溃疡③局部用药可达到治疗目的者则不全身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长期用药患者在停药时一定要逐渐减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9"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7. </a:t>
            </a:r>
            <a:r>
              <a:rPr b="1" lang="zh-CN" sz="2800" spc="-1" strike="noStrike">
                <a:solidFill>
                  <a:srgbClr val="000000"/>
                </a:solidFill>
                <a:latin typeface="Verdana"/>
                <a:ea typeface="宋体"/>
              </a:rPr>
              <a:t>糖皮质激素的混悬液制剂若长期固定部位肌内注射，可致局部肌肉萎缩，故不能在三角肌进行肌内注射，以防肌萎缩影响上肢功能。臂部肌内注射应注意部位交替进行，不能在感染的关节腔内注射给药，不可作皮下注射给药，以防产生局部脓肿或皮下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8. </a:t>
            </a:r>
            <a:r>
              <a:rPr b="1" lang="zh-CN" sz="2800" spc="-1" strike="noStrike">
                <a:solidFill>
                  <a:srgbClr val="000000"/>
                </a:solidFill>
                <a:latin typeface="Verdana"/>
                <a:ea typeface="宋体"/>
              </a:rPr>
              <a:t>用糖皮质激素期间不能做免疫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2"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7. </a:t>
            </a:r>
            <a:r>
              <a:rPr b="1" lang="zh-CN" sz="2800" spc="-1" strike="noStrike">
                <a:solidFill>
                  <a:srgbClr val="000000"/>
                </a:solidFill>
                <a:latin typeface="Verdana"/>
                <a:ea typeface="宋体"/>
              </a:rPr>
              <a:t>糖皮质激素的混悬液制剂若长期固定部位肌肉注射，可致局部肌肉萎缩，故不能在三角肌进行肌肉注射，以防肌萎缩影响上肢功能。臂部肌肉注射应注意部位交替进行，不能在感染的关节腔内注射给药，不可作皮下注射给药，以防产生局部脓肿或皮下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8. </a:t>
            </a:r>
            <a:r>
              <a:rPr b="1" lang="zh-CN" sz="2800" spc="-1" strike="noStrike">
                <a:solidFill>
                  <a:srgbClr val="000000"/>
                </a:solidFill>
                <a:latin typeface="Verdana"/>
                <a:ea typeface="宋体"/>
              </a:rPr>
              <a:t>用糖皮质激素期间不能做免疫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盐皮质激素</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5"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盐皮质激素主要有醛固酮和去氧皮质酮两种，对维持机体正常水、电解质代谢起重要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可促进肾远曲小管</a:t>
            </a:r>
            <a:r>
              <a:rPr b="1" lang="en-US" sz="2800" spc="-1" strike="noStrike">
                <a:solidFill>
                  <a:srgbClr val="000000"/>
                </a:solidFill>
                <a:latin typeface="Verdana"/>
                <a:ea typeface="宋体"/>
              </a:rPr>
              <a:t>Na</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l</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重吸收和</a:t>
            </a:r>
            <a:r>
              <a:rPr b="1" lang="en-US" sz="2800" spc="-1" strike="noStrike">
                <a:solidFill>
                  <a:srgbClr val="000000"/>
                </a:solidFill>
                <a:latin typeface="Verdana"/>
                <a:ea typeface="宋体"/>
              </a:rPr>
              <a:t>K</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H</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分泌，具有明显的保钠排钾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临床上盐皮质激素常与氢化可的松等合用治疗慢性肾上腺皮质功能减退症（艾迪生病），以纠正患者失钠、失水和钾潴留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肾上腺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17" name="Picture 6" descr="扫描"/>
          <p:cNvPicPr/>
          <p:nvPr/>
        </p:nvPicPr>
        <p:blipFill>
          <a:blip r:embed="rId1"/>
          <a:stretch/>
        </p:blipFill>
        <p:spPr>
          <a:xfrm>
            <a:off x="1285920" y="1214280"/>
            <a:ext cx="6143760" cy="5000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促肾上腺皮质激素</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8" name=""/>
          <p:cNvSpPr txBox="1"/>
          <p:nvPr/>
        </p:nvSpPr>
        <p:spPr>
          <a:xfrm>
            <a:off x="285840" y="1356840"/>
            <a:ext cx="85010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促肾上腺皮质激素由垂体前叶嗜碱细胞合成分泌，主要作用是促进肾上腺皮质分泌糖皮质激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CTH</a:t>
            </a:r>
            <a:r>
              <a:rPr b="1" lang="zh-CN" sz="2800" spc="-1" strike="noStrike">
                <a:solidFill>
                  <a:srgbClr val="000000"/>
                </a:solidFill>
                <a:latin typeface="Verdana"/>
                <a:ea typeface="宋体"/>
              </a:rPr>
              <a:t>口服后在胃内被胃蛋白酶破坏而失效，只能注射给药。由于其作用是间接的，故起效较慢，一般在用药后</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小时才开始分泌氢化可的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上用于</a:t>
            </a:r>
            <a:r>
              <a:rPr b="1" lang="en-US" sz="2800" spc="-1" strike="noStrike">
                <a:solidFill>
                  <a:srgbClr val="000000"/>
                </a:solidFill>
                <a:latin typeface="Verdana"/>
                <a:ea typeface="宋体"/>
              </a:rPr>
              <a:t>ACTH</a:t>
            </a:r>
            <a:r>
              <a:rPr b="1" lang="zh-CN" sz="2800" spc="-1" strike="noStrike">
                <a:solidFill>
                  <a:srgbClr val="000000"/>
                </a:solidFill>
                <a:latin typeface="Verdana"/>
                <a:ea typeface="宋体"/>
              </a:rPr>
              <a:t>兴奋试验以判断肾上腺皮质贮备功能，诊断腺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肾上腺皮质功能状态及检测长期使用糖皮质激素的停药前后皮质功能水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肾上腺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上腺皮质激素：是肾上腺皮质分泌的所有激素的总称。可分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糖皮质激素：由肾上腺皮质束状带细胞合成与分泌，包括氢化可的松、可的松，主要影响糖代谢，对水盐代谢影响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盐皮质激素：由肾上腺皮质球状带细胞合成与分泌，包括醛固酮，去氧皮质酮等，主要影响水盐代谢，对糖代谢影响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性激素：由肾上腺皮质网状带细胞分泌，主要为低活性雄激素，还有少量雌激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对代谢的影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糖代谢：促进糖原异生，减少组织对葡萄糖的利用从而升高血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蛋白质代谢：加速胸腺、肌肉、骨等蛋白质分解代谢，大剂量还能抑制蛋白质合成。故用药后可引起肌肉消瘦、骨质疏松、皮肤变薄和伤口愈合延缓等。</a:t>
            </a:r>
            <a:endParaRPr b="1" lang="en-US" sz="28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5"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脂肪代谢：大剂量长期应用可增高血浆胆固醇水平，促进四肢皮下脂肪分解，使其重新分布于面部、胸、背及臀部，形成向心性肥胖，表现为“满月脸、水牛背”的特殊体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水和电解质代谢：糖皮质激素有较弱的盐皮质激素作用，能潴钠排钾。此外长期应用可减少小肠对钙的吸收和抑制肾小管对钙的重吸收，造成骨质脱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8"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抗炎作用  糖皮质激素对各种原因引起的炎症都有强大的对抗作用。可减轻炎症早期的毛细血管扩张、渗出、水肿、白细胞浸润及吞噬反应，从而缓解红、肿、热、痛等症状，并能抑制炎症后期毛细血管和纤维细胞增生，延缓肉芽组织生长，防止粘连及瘢痕形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1"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免疫抑制与抗过敏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免疫抑制作用：对免疫的多个环节均有抑制作用，如抑制巨噬细胞对抗原的吞噬和处理，干扰淋巴细胞的识别及阻断免疫母细胞增殖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抗过敏作用：可抑制免疫过程中由于抗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抗体反应而引起的肥大细胞脱颗粒，从而使组胺、</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羟色胺、缓激肽等过敏介质释放减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抗内毒素作用：能提高机体对内毒素的耐受力，减轻内毒素对机体损害。但对细菌外毒素无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抗休克作用：大剂量可用于各种休克，特别是感染中毒性休克的治疗。其原因为：①抗炎、抗内毒素、免疫抑制的综合作用；②解除血管痉挛，改善微循环；③增强心肌收缩力；④稳定溶酶体膜，减少心肌抑制因子（</a:t>
            </a:r>
            <a:r>
              <a:rPr b="1" lang="en-US" sz="2800" spc="-1" strike="noStrike">
                <a:solidFill>
                  <a:srgbClr val="000000"/>
                </a:solidFill>
                <a:latin typeface="Verdana"/>
                <a:ea typeface="宋体"/>
              </a:rPr>
              <a:t>MDF</a:t>
            </a:r>
            <a:r>
              <a:rPr b="1" lang="zh-CN" sz="2800" spc="-1" strike="noStrike">
                <a:solidFill>
                  <a:srgbClr val="000000"/>
                </a:solidFill>
                <a:latin typeface="Verdana"/>
                <a:ea typeface="宋体"/>
              </a:rPr>
              <a:t>）的形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7:13:23Z</dcterms:modified>
  <cp:revision>150</cp:revision>
  <dc:subject/>
  <dc:title>内科护理学</dc:title>
</cp:coreProperties>
</file>